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C4BA-239E-4DCA-AA7B-7DC2D9ECA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5A89-87DE-44F0-A5BC-0BC075A05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FDE4-7B97-4BEA-A3DB-2EF592050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5DB3-6364-4D75-B1DD-A41A04E54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19D7-8CEA-4D83-AE57-517155F40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DF7D-83A0-463E-BAE4-491C6A28E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FD37-B862-4FDC-8790-5F012BECA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4D0C-6689-492F-8866-089409019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F6E0-77EB-4329-9747-0A329433C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EE0A-E9AC-42C5-8954-E4E2B8B9D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1127-FBD2-40C7-B489-BF4F8719F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1C36-DA1A-41B5-ABFC-195A92003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40F16-D158-4B8D-92D1-73EDA82777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ncial Re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tember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ncial Report: 200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1600200"/>
            <a:ext cx="4724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h Basis account for 2005 (until Aug 3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exp from march yet to be accounte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711760" y="1295280"/>
            <a:ext cx="3178080" cy="52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05: yt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7238880" cy="383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verall income is 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69 members are paid for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me to date in 2005: $138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ct $1K more with end of year renew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verall expense is low so f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 tra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2T17:50:24Z</dcterms:created>
  <dc:creator>Synopsys Employee</dc:creator>
  <dc:description/>
  <dc:language>en-US</dc:language>
  <cp:lastModifiedBy>ozlevia</cp:lastModifiedBy>
  <dcterms:modified xsi:type="dcterms:W3CDTF">2005-09-14T17:53:32Z</dcterms:modified>
  <cp:revision>12</cp:revision>
  <dc:subject/>
  <dc:title>Financial Report</dc:title>
</cp:coreProperties>
</file>