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499B-6DA9-4891-94A9-B29C0E968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E8C9-FC4E-4404-B02B-464E99CCB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3FF2-019A-4194-B5A4-2401B8D07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744F-DE21-4DA2-B770-05E3ADF369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B9879-864E-4765-9479-52F6B0E66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9973D-FE98-432A-A80A-22855E9314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C0F56-3D9F-4B8A-ACBF-3346871AE3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D3095-08DC-4EE6-92A0-0411D5A57E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4BADC-8CDA-42F5-865B-4330F1040E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2383D-53E9-4232-A02D-203975DDA5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F71B-1604-4A0A-B7A8-49A821CE1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2F05-A515-4E86-B990-B9F8E169B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EEC75-13E2-46A1-8B8A-DBBE67C4E9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4E318-46D7-4767-8C35-C4AE89E248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B1D27-18DB-47D0-874A-A9002A261D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D559D-5C60-4254-A376-E4B687DC9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4AE30-DAE1-41F6-8BBA-3FA859193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5D31-6784-4C79-8BBA-7636316A4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8420C-3E77-429E-8AF4-F5B361405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FB63-B683-4B1D-9CD0-058FA6454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8A88-5FCE-447B-BE30-D5FCC31D3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3168-82AC-4AE9-8586-4E18BD5B6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B14D-A16E-42C0-A080-B98A70DB4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B3FE-3626-4E99-8485-B60336F62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68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90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17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50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2195640" y="6243480"/>
            <a:ext cx="46814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92720" y="6237360"/>
            <a:ext cx="6476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F68-9D88-4EA2-9D09-DACD627F0B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6375240"/>
            <a:ext cx="1706760" cy="4827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6848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40080" y="333360"/>
            <a:ext cx="4263840" cy="1206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258920" y="6243480"/>
            <a:ext cx="66261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8101080" y="6243480"/>
            <a:ext cx="846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B2D-A8C4-46BD-A28E-7BA5782C5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ASC-procedures-adopted.pdf" TargetMode="External"/><Relationship Id="rId2" Type="http://schemas.openxmlformats.org/officeDocument/2006/relationships/hyperlink" Target="file:///DASC-procedures-adopted.pdf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asc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2005-06/DASC-SC_June05_minutes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C Steering Committ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 September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00280" y="1557360"/>
            <a:ext cx="2143440" cy="714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4653000"/>
            <a:ext cx="4105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er Ashend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er@ashenden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SC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653000"/>
            <a:ext cx="4105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ctor Berm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erman@cadenc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SC Vice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Liaison Representa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-CS/SAB: Peter Ash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C TC93 Design Automation: Alex Zamfires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ITA, EDA Technical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ITA Liaison to DASC: Satoshi Koj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C Liaison to JEITA: Victor B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C Chai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 offic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DATC EX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C Chai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 offic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DASC-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 TC: Victor B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lera: Victor B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B074-DAB3-4158-9063-13ACED727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. Project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: VHDL (Stephen Bai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.1: VHDL-AMS (Alain Vachou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.1.1: VHDL-AMS - Packages for Energy Domains (Alan Mantoo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.4: VITAL (Ajay Varik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64/1800: Verilog/SystemVerilog (Johny Srouj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81: OLA (John Beat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03: ALF (Wolfgang Roethi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9B84-6021-4A86-8039-0155B36076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. Project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47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erification Language (Yaron Kasha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6: SystemC (Victor Berm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5: SPIRIT (Victor Berm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50: PSL (Harry Fo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5932-7EEB-4DC3-8F30-4E881A69D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 Study Group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D1DC-E243-417C-AD46-301CAA6AD3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DASC Patent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change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ASC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&amp;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all of clause 6 excep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nt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ndards developed by DASC shall conform to the IEEE-SA Standards Board’s Bylaws regarding patents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CF82-C749-4DBB-9C02-D50FB6039E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Dissemination of Stds 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issue for other SAB spon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June SAB mee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B preparing proposal for SAS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 to monitor and advise w.r.t. ou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C3F7-6A68-4F62-9DC7-C59DBAA23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Othe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-SC Officer election due by December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 Plenary (Ale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0F387-CE10-432D-8885-DA089C20A9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. Activities, Meet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A Standards Workshop (Berm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and Applicati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. Numerics su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llaboration with DATC, TTTC/TTSC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-SC meeting sche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6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uary: EDS Fair, 26-27 January, Jap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: DATE, 6-10 March, Munich,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: DAC, 24-28 July, San Francis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: Piscataway, N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F995-C007-48F1-9901-41E97E8596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2. Adjou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eting minutes to be posted 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das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313A-2553-4829-90FA-0A08AF1AD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C-SC Voting Me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ter Ashenden (Cha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ctor Berman (Vice-Chair, P1666, P16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 Bailey (Secretary, P107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z Levia (Treasur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in Vachoux (P1076.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n Mantooth (P1076.1.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jay Varikat (P1076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y Srouji (P1364, P1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 Beatty (P148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lfgang Roethig (P160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ron Kashai (P164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ry Foster (P18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Barton (DATC Cha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797360"/>
            <a:ext cx="2952720" cy="1152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ing members: currently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orum: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323C-0298-42C6-A721-6B58426B0C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81024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to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d 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utes of meeting, 17 Jun 05, Anahe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rising from the min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of business conducted by e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s from Liaison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4760" y="1341000"/>
            <a:ext cx="38098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y Group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ent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Policy on IP from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ies and meeting sche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CCAB-4035-403A-9CA1-AF813388A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Award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. Bhasker, eSilicon Co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-CS Meritorious Service Certif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chnical contributions and continued leadership in development of electronic design automatio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 of P1364.1 Verilog Synthesis Interoperability Working Group from 1998 to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 of P1076.6 VHDL Synthesis Interoperability Working Group from 1996 to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ber of P1076, P1076.3, P1076.4 Working groups during 1990s to present, contributing to technical development and revision of the standard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6370-8AF6-4F1E-95FF-D9F74AA7F3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utes, 17 Jun 2005 Me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inut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www.das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Business Ar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project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ndards Companion, “Reten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 “should” discard – is this mandato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ent slides linked at www.dasc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CB93-70D2-43CC-B06A-74548FF7CA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Business Conducted by Em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-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Project roll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800 recir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647 ballot group 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staff liaison (Sue Vog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685 SPIRIT approved by Nes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to extend 1076.4 pending Cor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for nominations for SASB and standing committ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EC73-02C0-4C57-8764-8A3026C7F8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Business Conducted by Em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-CS/S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type of new website (incl. collaboration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for contribution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EEE Compu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ndards colum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law requirement to notify individuals if information unlawfully acc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Vitality Survey to be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07A0-E123-419F-9388-15AF83181B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Business Conducted by Em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 of email from TC93 re need to formalize dual-logo std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7281-7CF4-4D0B-8B1E-59808FF1C1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Financial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r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z Levia (Treasur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r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3D72-BE31-4291-85CE-273792F5BB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1:29:52Z</dcterms:created>
  <dc:creator>Peter Ashenden</dc:creator>
  <dc:description/>
  <dc:language>en-US</dc:language>
  <cp:lastModifiedBy>Peter Ashenden</cp:lastModifiedBy>
  <dcterms:modified xsi:type="dcterms:W3CDTF">2005-09-21T02:56:22Z</dcterms:modified>
  <cp:revision>114</cp:revision>
  <dc:subject/>
  <dc:title>Slide 1</dc:title>
</cp:coreProperties>
</file>