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074-3730-4DC5-AD95-CA403DC9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3BA-59F3-44B1-96BD-8AAD1ED3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981-2CC2-413E-B517-0097B9F1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C83-CC2B-4DED-BB5F-60886B94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6D9-ABF4-4FC2-AC48-1D96B561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DEB-CBDA-4F95-9CDA-E2F9D38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490-2364-452E-9AA6-33524972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AF6-D1AB-4ECA-AB5A-4651957E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1DA-A2DF-4A19-B01A-47809C37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205-A190-4E47-A957-F67DEC8B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F55-DA95-4051-A88D-9E1173AF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C2E-D71F-4F72-ACC4-397CE81C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C9D9-3B46-4D2C-A061-4F0D3C0E53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Jun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CBFE-55C3-4306-A3C2-2D0B5122B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jay@cadence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1076.4 VIT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880" y="411480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yharsh Vari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jay@cadenc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 Sept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1076.4 VITAL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Group has participation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ntor Graphic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ilin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ed RevCom to extend current standard till 31-Dec-200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 go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on 6 IRs filed on VITAL 2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n to complete analysis by end Octobe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05:15:56Z</dcterms:created>
  <dc:creator>Dennis Brophy</dc:creator>
  <dc:description/>
  <dc:language>en-US</dc:language>
  <cp:lastModifiedBy>Cadence Design Systems, Inc</cp:lastModifiedBy>
  <dcterms:modified xsi:type="dcterms:W3CDTF">2005-09-16T13:08:57Z</dcterms:modified>
  <cp:revision>67</cp:revision>
  <dc:subject/>
  <dc:title>DASC Patent Policy</dc:title>
</cp:coreProperties>
</file>