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57680" y="7223040"/>
            <a:ext cx="933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/19/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4400" y="7223040"/>
            <a:ext cx="145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hn Beat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46080" y="3422160"/>
            <a:ext cx="86076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481 Working Group Progress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9440" y="392040"/>
            <a:ext cx="860724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8160" y="1538280"/>
            <a:ext cx="9372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ft is now fully assemb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70 pages in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embled from 2 standards + 100 or so ne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eds proof reading and form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volunteer work no e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ching toward a ballot release for next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ct date depends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ballot version need consistent paragraph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9360" indent="-21132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ning to release in PDF form for ballo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6360" indent="-281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of reading completion scheduled for Jan/Feb time-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Beatty</dc:creator>
  <dc:description/>
  <dc:language>en-US</dc:language>
  <cp:lastModifiedBy>John Beatty</cp:lastModifiedBy>
  <cp:revision>0</cp:revision>
  <dc:subject/>
  <dc:title/>
</cp:coreProperties>
</file>