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ACA27-04EB-4DA6-AE03-9E3823F94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8736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EB15B-1B34-407B-AE16-1C8837F6E6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FAE23-BC6B-4F35-BFB7-B375AAB58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FF681-824E-4A59-98B1-7D4D96C33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CAD1C-A38D-4D1C-ADCD-ADF4A75BF2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09BEC-8CC3-4F92-90D0-7EE0FDE081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51B29-7AEA-4EB1-B37E-040D459947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DF936-C281-443C-83B7-2CD6B97AE5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1BE15-FF7A-408C-A04C-6A74007D10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705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05638-1C51-4769-B001-579AB61837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2BDC1-BF86-4576-ABEB-929C7CA14E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8D271-B5A1-48BF-85A6-781E9CD2B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89AD4-A801-46D5-B0EB-E4E6E88BAB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1654B-4539-4AA2-B709-C8E8788E7C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8736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9A0FD-4223-4811-B4D3-F1F3440225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34D79-1BD5-488B-AD82-FE7001ECCC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09FF0-1DE6-43D5-BF0B-20207B9B7F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B26B-6E66-4A76-8067-3C1E4BA01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8C936-75E1-42E7-8C29-A7510D9F2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E1CA-4337-43A9-AEA2-8963FCAADD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705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C84C1-0441-4288-8D76-BEAEBF9D4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4BB60-57EF-4FE1-88D3-C98B2BDDA4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AD466-134E-450D-AB07-109A000AD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BE308-8CF0-4140-A0F7-AEA70B4B6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3" marL="1146240" indent="-1792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4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5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6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443280"/>
            <a:ext cx="364968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AFCB-4CD5-481B-A52C-6485A8D8DA13}" type="slidenum"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43640"/>
            <a:ext cx="86868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4714"/>
          <a:stretch/>
        </p:blipFill>
        <p:spPr>
          <a:xfrm>
            <a:off x="7226280" y="444600"/>
            <a:ext cx="1548000" cy="3744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5360" y="2819520"/>
            <a:ext cx="8686800" cy="2898720"/>
          </a:xfrm>
          <a:prstGeom prst="rect">
            <a:avLst/>
          </a:prstGeom>
          <a:solidFill>
            <a:srgbClr val="cc0000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80800"/>
            <a:ext cx="6719760" cy="1716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455760" y="6319800"/>
            <a:ext cx="347184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B60A-274A-44DF-8F8D-F87B19F0348B}" type="slidenum"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CADENCE DESIGN SYSTEMS, INC.</a:t>
            </a:r>
            <a:r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5360" y="5791320"/>
            <a:ext cx="8686800" cy="8380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5360" y="228600"/>
            <a:ext cx="8686800" cy="25146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0" b="4825"/>
          <a:stretch/>
        </p:blipFill>
        <p:spPr>
          <a:xfrm>
            <a:off x="6946920" y="573120"/>
            <a:ext cx="1700280" cy="411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79360" indent="0"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631800" algn="ctr">
              <a:spcAft>
                <a:spcPts val="1125"/>
              </a:spcAft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966960" algn="ctr">
              <a:spcAft>
                <a:spcPts val="1001"/>
              </a:spcAft>
              <a:buClr>
                <a:srgbClr val="4d4d4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4" marL="22860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2860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2860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da.org/SystemC" TargetMode="External"/><Relationship Id="rId2" Type="http://schemas.openxmlformats.org/officeDocument/2006/relationships/hyperlink" Target="http://www.eda.org/SystemC" TargetMode="External"/><Relationship Id="rId3" Type="http://schemas.openxmlformats.org/officeDocument/2006/relationships/hyperlink" Target="http://www.eda.org/SystemC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80800"/>
            <a:ext cx="8305920" cy="1373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EEE P1666 SystemC Standardization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orking Group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                    Status and Plans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5144760"/>
            <a:ext cx="6719760" cy="436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tember 19, 200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4673520"/>
            <a:ext cx="28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ctor Berman, P1666 Chai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13B2B-2017-476C-BB80-F0BB32C32C69}" type="slidenum">
              <a:t>1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IEEE P1666 SystemC Working Group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lvl="1" marL="50004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Goals of the Working Group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250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Near Term: Develop an IEEE Standard based on the SystemC 2.1 LR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250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Longer Term: Provide formal standards body forum for future SystemC related standards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tructure of Working Group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250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P1666 is an entity based WG jointly sponsored by CAG and DASC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250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Voting members must be IEEE-SA Corporate program entiti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250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r information see the web site at: </a:t>
            </a:r>
            <a:r>
              <a:rPr b="0" lang="en-US" sz="2000" spc="-1" strike="noStrike" u="sng">
                <a:solidFill>
                  <a:srgbClr val="4d4d4d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4d4d4d"/>
                </a:solidFill>
                <a:uFillTx/>
                <a:latin typeface="Arial"/>
                <a:hlinkClick r:id="rId2"/>
              </a:rPr>
              <a:t>www.eda.org</a:t>
            </a:r>
            <a:r>
              <a:rPr b="0" lang="en-US" sz="2000" spc="-1" strike="noStrike" u="sng">
                <a:solidFill>
                  <a:srgbClr val="4d4d4d"/>
                </a:solidFill>
                <a:uFillTx/>
                <a:latin typeface="Arial"/>
                <a:hlinkClick r:id="rId3"/>
              </a:rPr>
              <a:t>/SystemC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2597D-1D44-45BF-BE1C-922CC0A6B742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IEEE P1666 SystemC Working Group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36480"/>
            <a:ext cx="8229600" cy="45702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lvl="1" marL="50004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90000"/>
              </a:lnSpc>
              <a:spcAft>
                <a:spcPts val="112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ajor Mileston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90000"/>
              </a:lnSpc>
              <a:spcAft>
                <a:spcPts val="1001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PAR approved by NesCom November 18, 2004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90000"/>
              </a:lnSpc>
              <a:spcAft>
                <a:spcPts val="1001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Draft LRM transferred from OSCI to WG April 25, 2005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90000"/>
              </a:lnSpc>
              <a:spcAft>
                <a:spcPts val="1001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Ballot constituency completed  and approved June 12, 2005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90000"/>
              </a:lnSpc>
              <a:spcAft>
                <a:spcPts val="1001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Ballot completed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lnSpc>
                <a:spcPct val="90000"/>
              </a:lnSpc>
              <a:spcAft>
                <a:spcPts val="876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9 voting members: 2 negative, 6 positive, 1 abstention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90000"/>
              </a:lnSpc>
              <a:spcAft>
                <a:spcPts val="1001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Ballot resolution completed – new draft circulated for WG approva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90000"/>
              </a:lnSpc>
              <a:spcAft>
                <a:spcPts val="112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Pla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90000"/>
              </a:lnSpc>
              <a:spcAft>
                <a:spcPts val="1001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WG to meet September 23, 2005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lnSpc>
                <a:spcPct val="90000"/>
              </a:lnSpc>
              <a:spcAft>
                <a:spcPts val="876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Get approval to do recirculation ballo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lnSpc>
                <a:spcPct val="90000"/>
              </a:lnSpc>
              <a:spcAft>
                <a:spcPts val="876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Should get ballot completed end of October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lnSpc>
                <a:spcPct val="90000"/>
              </a:lnSpc>
              <a:spcAft>
                <a:spcPts val="876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Targeting December RevCom meeting but will be tight –deadline Oct 17, 2005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D01A-50F6-4F68-9E30-274E0C63FDD8}" type="slidenum">
              <a:t>3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8:01:23Z</dcterms:created>
  <dc:creator>Kathleen Meade</dc:creator>
  <dc:description/>
  <dc:language>en-US</dc:language>
  <cp:lastModifiedBy>Cadence Design Systems, Inc</cp:lastModifiedBy>
  <dcterms:modified xsi:type="dcterms:W3CDTF">2005-09-19T16:35:00Z</dcterms:modified>
  <cp:revision>258</cp:revision>
  <dc:subject>SystemVerilog AE Training</dc:subject>
  <dc:title>An Introduction to SystemVeril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68041395</vt:r8>
  </property>
  <property fmtid="{D5CDD505-2E9C-101B-9397-08002B2CF9AE}" pid="3" name="_AuthorEmail">
    <vt:lpwstr>vberman@cadence.com</vt:lpwstr>
  </property>
  <property fmtid="{D5CDD505-2E9C-101B-9397-08002B2CF9AE}" pid="4" name="_AuthorEmailDisplayName">
    <vt:lpwstr>Victor Berman</vt:lpwstr>
  </property>
  <property fmtid="{D5CDD505-2E9C-101B-9397-08002B2CF9AE}" pid="5" name="_EmailSubject">
    <vt:lpwstr>DASC-SC meeting materials</vt:lpwstr>
  </property>
  <property fmtid="{D5CDD505-2E9C-101B-9397-08002B2CF9AE}" pid="6" name="_NewReviewCycle">
    <vt:lpwstr/>
  </property>
  <property fmtid="{D5CDD505-2E9C-101B-9397-08002B2CF9AE}" pid="7" name="_PreviousAdHocReviewCycleID">
    <vt:r8>1889503851</vt:r8>
  </property>
</Properties>
</file>