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0F9-62FB-4E5E-8476-38F7E010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56E-860A-4E98-B989-2217E7C1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9CE-AE35-4009-B57B-F704230C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E4BE-368A-4D2D-AE62-6DE88A2D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7E3-BFA7-4698-881A-7E5D7725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FB2-37FC-4DBE-B9C1-257ADAB4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6FC-841C-44C9-B220-4E115865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368-1EF3-4D92-A5FC-493844AC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13D-99BA-462B-B6F2-6F756020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848-926D-4F0B-8788-D417D054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CFA-0D05-4648-AFEF-CD9A1A4C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B00-EC94-4617-8A98-82EA844D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F7D6-68BB-4F5E-8061-1D9AB8E47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WG1603 update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LF now approved as IEEE/IEC dual logo standar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e Alex’ repor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LF reference implementation project under wor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isting commercial ALF applications cover only subset of IEEE 1603-2003 spe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s project targets full implementation of spe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mpletion planned e/o December 2005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iscovered a few errata (&lt; 10) in spec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waiting Peter’s instruction for errata handling procedu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6:31:14Z</dcterms:created>
  <dc:creator>roethigw</dc:creator>
  <dc:description/>
  <dc:language>en-US</dc:language>
  <cp:lastModifiedBy>roethigw</cp:lastModifiedBy>
  <dcterms:modified xsi:type="dcterms:W3CDTF">2005-09-19T16:40:59Z</dcterms:modified>
  <cp:revision>3</cp:revision>
  <dc:subject/>
  <dc:title>PowerPoint Presentation</dc:title>
</cp:coreProperties>
</file>