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BD3-700E-4771-8E62-D4D5EF73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036-D469-4512-92B6-8C521A07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B188-47D9-4521-B2A8-07608956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DC29-6E9D-434D-9089-12F19071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0E5C-7ADC-48D0-9068-0B596525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296B-D995-480E-9E2A-772190FA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8AF5-BFAD-48BA-8EDD-73DA9860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5FBC-25C1-41A8-89C0-4CE2AFC6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2EAA-03F2-4B2A-90B1-F4298816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59CC-FFC4-4173-B1DB-E9E104C8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2B13-12D5-4468-A15D-4297A1CC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3029-B5D7-4D90-8DBE-15B961AE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217D-7B85-4DBD-A661-64B388CB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EE06-7FB7-4060-A685-94B183BF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AE13-52B5-45FA-B46D-EF7B17BC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CBBC-BD64-4C5A-80AA-E44D070D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2D75-EA32-4831-BBCE-98E1A2F3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FAB5-6352-450D-AD62-3A8FDB1D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656-912F-4E04-874B-60E00B98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020-B415-4D7E-9F7C-32F1A8B2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B5EB-47ED-4C59-AA5C-A3C392DD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26DB-879A-4668-94EC-8D7A813A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875F-88DE-4BB9-8082-16B57F35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A43-0C7F-46C2-8BC5-FEAC6373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14C3-5916-4A27-A1E7-5C2A5099256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2251-678C-4B7B-8C14-030DC0225CE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1647 Status for March ‘05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nalized the LR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solved over 500 issues in the proces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14 active authors feeding into the edi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bout 20 reviewers, some very thorough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pproved the LR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G unanimously approved (28 voting member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aiting for the ballot to sta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allot group was form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56 total, 21 general interest, 14 producer, 21 us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RM under SA editorial staff review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056040" y="58212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www.ieee1647.org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Yaron Kashai</cp:lastModifiedBy>
  <dcterms:modified xsi:type="dcterms:W3CDTF">2005-09-09T18:46:04Z</dcterms:modified>
  <cp:revision>47</cp:revision>
  <dc:subject/>
  <dc:title>PowerPoint Presentation</dc:title>
</cp:coreProperties>
</file>