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559224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3250800" y="504720"/>
            <a:ext cx="3367080" cy="25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1315800" y="3196800"/>
            <a:ext cx="7234200" cy="3032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-36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559224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C61228-1779-46D7-8519-38DE17C1BDF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59224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FEA507-BB94-4B59-B71F-1B7B1F62EFF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224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本の電子情報技術産業協会は、日本を代表す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2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エレトロニクスおよ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関連企業が参加しています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IT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にはそれぞれの分野別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部会が設置されています。我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実行委員会は、それらの部会のうち主要半導体ベン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社から構成される半導体部会の配下にあり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59224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FB49AE-F9A5-48A9-A871-DC30B6EC445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59224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をはじめとする各種設計ソリューションのアジア随一の展示会であり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と並ぶ世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関係展示会のひとつです。来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間、例年通り日本のパシフィコ横浜での開催を予定して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この図は、パシフィコ横浜に概観図です。左の白い部分が展示上。右側が会議棟で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は、展示会の他、出展者セミナー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GA/PL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デザインコンファレンスから構成されます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200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で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-DA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South Pacific-Design Automation Conferen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も同じくパシフィコ横浜で同時開催されます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主催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IT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であり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A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協力を得ています。また、日本の経済産業省および米国大使館の後援をいただいており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IT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に関しては、後ほどご説明いた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59224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963BD4-C2B4-4C09-9856-FCFF77ADB54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59224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このスライド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200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200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開催時期、開催場所、来場者数の比較です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に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間の開催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10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の方に来場していただきました。また、出展者数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社で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1CB-5D65-4AD2-864C-D5E14889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6E8-6241-4064-87EC-A339BC76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9A0-EB38-4CA9-89CE-DE6CF87D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273-C104-4D8F-A1E4-890A4233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8D49-E898-4650-89E8-6B2072A0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FF1B-D5FB-4C22-A4B8-6A1ED334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72ED-FB8E-4540-AE40-C984AC8C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70A8-8399-4DA7-B9BC-A03C344B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C16E-8D7D-4C6A-8B5B-6A59EAF6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5B35-5B9C-4AD5-B43D-CC097B3E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8AB2-9EB1-483E-B3A5-B546496C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9AD-49BE-43A4-94FE-3645FFC1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A7D2-61A2-4862-A906-E99FB020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28DF-76C2-4535-836F-3D09B88A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F33C-59E3-4CF0-AEE2-DAAC0851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D1F8-388E-49BD-9A79-3A2553F9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E8D4-5E5C-4250-BC89-0638BBA3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A4E-9488-4B68-8068-33A14712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57D7-F36D-46F5-970B-B46515BB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878-D354-4A9D-8E89-E80DF733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810-A798-4398-B8EF-0ED88D8B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487-1FB3-4BDF-A466-D5DB311C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D23-4382-49CE-B73B-74BB2901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B1F-C114-4243-9E8C-26A8C5D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91160"/>
            <a:ext cx="9169560" cy="138240"/>
            <a:chOff x="0" y="6491160"/>
            <a:chExt cx="9169560" cy="138240"/>
          </a:xfrm>
        </p:grpSpPr>
        <p:sp>
          <p:nvSpPr>
            <p:cNvPr id="1" name=""/>
            <p:cNvSpPr/>
            <p:nvPr/>
          </p:nvSpPr>
          <p:spPr>
            <a:xfrm>
              <a:off x="6415200" y="651492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41760" y="650052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9116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2DA5-5E26-46D8-9A4E-E13E095970BC}" type="slidenum">
              <a:rPr b="0" lang="ja-JP" sz="10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76320"/>
            <a:ext cx="9156600" cy="757080"/>
            <a:chOff x="0" y="76320"/>
            <a:chExt cx="9156600" cy="757080"/>
          </a:xfrm>
        </p:grpSpPr>
        <p:sp>
          <p:nvSpPr>
            <p:cNvPr id="10" name=""/>
            <p:cNvSpPr/>
            <p:nvPr/>
          </p:nvSpPr>
          <p:spPr>
            <a:xfrm>
              <a:off x="7920" y="763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2318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20" y="763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5000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8080" y="5032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1440" y="763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4720" y="763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98600" y="1350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841480" y="763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084480" y="3207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91000" y="2145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94240" y="4572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322880" y="5907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024520" y="6717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497560" y="5000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83320" y="1684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851440" y="3063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743440" y="5652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5000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418000" y="5382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32640" y="3733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443720" y="3715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5000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886880" y="5716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5000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442360" y="4572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7086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3F1C-84E6-446F-9B58-3B6F9E2302DA}" type="slidenum">
              <a:rPr b="0" lang="ja-JP" sz="10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36360" y="6669000"/>
            <a:ext cx="9168840" cy="138240"/>
            <a:chOff x="-36360" y="6669000"/>
            <a:chExt cx="9168840" cy="138240"/>
          </a:xfrm>
        </p:grpSpPr>
        <p:sp>
          <p:nvSpPr>
            <p:cNvPr id="72" name=""/>
            <p:cNvSpPr/>
            <p:nvPr/>
          </p:nvSpPr>
          <p:spPr>
            <a:xfrm>
              <a:off x="6378480" y="6692760"/>
              <a:ext cx="275400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05040" y="6678360"/>
              <a:ext cx="421416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36360" y="6669000"/>
              <a:ext cx="323964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901800" y="65642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0080" y="65642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02600" y="669276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A6D5-DAC3-4574-997B-D641756DF77C}" type="slidenum">
              <a:rPr b="0" lang="ja-JP" sz="10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76320"/>
            <a:ext cx="9156600" cy="757080"/>
            <a:chOff x="0" y="76320"/>
            <a:chExt cx="9156600" cy="757080"/>
          </a:xfrm>
        </p:grpSpPr>
        <p:sp>
          <p:nvSpPr>
            <p:cNvPr id="79" name=""/>
            <p:cNvSpPr/>
            <p:nvPr/>
          </p:nvSpPr>
          <p:spPr>
            <a:xfrm>
              <a:off x="7920" y="763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2318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920" y="763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080" y="5032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1440" y="763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4720" y="763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98600" y="1350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41480" y="763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84480" y="3207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91000" y="2145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94240" y="4572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22880" y="5907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4520" y="6717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7560" y="5000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83320" y="1684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51440" y="3063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3440" y="5652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18000" y="5382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32640" y="3733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3720" y="3715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86880" y="5716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42360" y="4572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01" name="" descr="Japan Electronics and Information Technology Industries Association"/>
          <p:cNvPicPr/>
          <p:nvPr/>
        </p:nvPicPr>
        <p:blipFill>
          <a:blip r:embed="rId2"/>
          <a:stretch/>
        </p:blipFill>
        <p:spPr>
          <a:xfrm>
            <a:off x="2790720" y="3716280"/>
            <a:ext cx="3510000" cy="971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31760" y="1459080"/>
            <a:ext cx="747612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Japan NC &amp; JEITA/EDA-TC </a:t>
            </a:r>
            <a:r>
              <a:rPr b="0" lang="en-US" sz="2800" spc="-1" strike="noStrike">
                <a:solidFill>
                  <a:srgbClr val="ffccff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IEC/TC93/WG2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on 5-9 September 2005 in Nara, Japan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33920" y="5014800"/>
            <a:ext cx="3242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DA-TSC/STD-TSC in JE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G2 in TC93-JP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nes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Yoshio Okamur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74560" y="18576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ystemC-TG, SytemVerilog-TG Activit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3320" y="981000"/>
            <a:ext cx="896436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ystemC-T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Participating IEEE P1666-WG as a voting membe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So far, submitted over 50 issues for the previous version of the LR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Reviewed “</a:t>
            </a:r>
            <a:r>
              <a:rPr b="1" lang="en-US" sz="2000" spc="-1" strike="noStrike">
                <a:solidFill>
                  <a:srgbClr val="545472"/>
                </a:solidFill>
                <a:latin typeface="Helvetica-Bold"/>
                <a:ea typeface="ＭＳ Ｐゴシック"/>
              </a:rPr>
              <a:t>IEEE P1666™/D2.1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” document and submitted 19 modif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requests. All requests are accepted. </a:t>
            </a:r>
            <a:r>
              <a:rPr b="0" lang="en-US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Ready for the final ballot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Creating the “World Wide SystemC Industrial/Academic Trend Report"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Hosted IEEE P1666-WG to share information on 27 Jan. ,200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ystemVerilog-T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- Submitted 32 errata to Accellera and IEEE P1800-WG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- Voted in favor for the IEEE P1800 ballot on July. 2nd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- Creating the "Technical term dictionary" for Japanese industry standar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- Hosted IEEE P1800-WG to share information on 26 Jan. ,200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Collaboration of two task group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Co-hosting the SystemC/SystemVerilog User's Forum at EDSFair2006 at Yokoham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1280" y="3068640"/>
            <a:ext cx="3564000" cy="324000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2997360"/>
            <a:ext cx="5118120" cy="273672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765000"/>
            <a:ext cx="4033800" cy="208764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280" y="765000"/>
            <a:ext cx="3276720" cy="21592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4481640"/>
            <a:ext cx="2016000" cy="934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120" y="89388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EIC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3720" y="1485000"/>
            <a:ext cx="24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C93  JNC  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720" y="31845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JEIT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05360" y="4456080"/>
            <a:ext cx="164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TD-TS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WG2 JN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1080" y="292572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EE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0" y="369252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EEE-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30640" y="765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EC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34360" y="149868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99"/>
                </a:solidFill>
                <a:latin typeface="Tahoma"/>
              </a:rPr>
              <a:t>(Int’l) TC9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24840" y="218124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99"/>
                </a:solidFill>
                <a:latin typeface="Tahoma"/>
              </a:rPr>
              <a:t>(Int’l) WG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49080" y="59245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ccellera, OSC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909720"/>
            <a:ext cx="107964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9360" y="3184560"/>
            <a:ext cx="107964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95640" y="3070080"/>
            <a:ext cx="1079640" cy="4320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95640" y="909720"/>
            <a:ext cx="107964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38560" y="5924520"/>
            <a:ext cx="2592360" cy="4320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3808440"/>
            <a:ext cx="1368360" cy="43164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2206800"/>
            <a:ext cx="216072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2206800"/>
            <a:ext cx="1584360" cy="431640"/>
          </a:xfrm>
          <a:prstGeom prst="rect">
            <a:avLst/>
          </a:prstGeom>
          <a:noFill/>
          <a:ln cap="rnd" w="2844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1557360"/>
            <a:ext cx="172872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5080" y="1557360"/>
            <a:ext cx="201600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6200" y="3692520"/>
            <a:ext cx="144144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4276800"/>
            <a:ext cx="151272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34136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177336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198900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242100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11480" y="218124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WG2 JN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361620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04820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42920" y="4264200"/>
            <a:ext cx="0" cy="792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2920" y="469584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160" y="380844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DA-T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57800" y="134136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57800" y="177336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5440" y="198900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05440" y="242100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8920" y="3502080"/>
            <a:ext cx="0" cy="1008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8920" y="393372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472608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WGs(P1666,P1800,,,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4160" y="4222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AS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6160" y="3502080"/>
            <a:ext cx="285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A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NesCom,RevCom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451008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03280" y="4842000"/>
            <a:ext cx="1800360" cy="4316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06640" y="548964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CT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VT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416560"/>
            <a:ext cx="0" cy="649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570564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606600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03640" y="4724280"/>
            <a:ext cx="0" cy="649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03640" y="5013360"/>
            <a:ext cx="28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5373720"/>
            <a:ext cx="28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43280" y="2637000"/>
            <a:ext cx="0" cy="216036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2565360"/>
            <a:ext cx="50328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35320" y="4076640"/>
            <a:ext cx="13809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Memb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(’04/12~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40160" y="5573880"/>
            <a:ext cx="57636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19400" y="5516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tanda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5805360"/>
            <a:ext cx="504720" cy="505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a7ccd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5006880"/>
            <a:ext cx="505080" cy="505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a7ccd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4388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Collabor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82920" y="62308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Collabor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8600" y="189000"/>
            <a:ext cx="8047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SC-”EDA-TC” Collaboration Structur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900520" y="2563920"/>
            <a:ext cx="1081080" cy="957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182200" y="26845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(Dual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Logo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52440" y="11905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Representativ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87880" y="907920"/>
            <a:ext cx="647640" cy="438120"/>
          </a:xfrm>
          <a:prstGeom prst="rightArrow">
            <a:avLst>
              <a:gd name="adj1" fmla="val 50000"/>
              <a:gd name="adj2" fmla="val 36956"/>
            </a:avLst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3645000"/>
            <a:ext cx="647640" cy="438120"/>
          </a:xfrm>
          <a:prstGeom prst="rightArrow">
            <a:avLst>
              <a:gd name="adj1" fmla="val 50000"/>
              <a:gd name="adj2" fmla="val 36956"/>
            </a:avLst>
          </a:prstGeom>
          <a:solidFill>
            <a:srgbClr val="a7ccd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9760" y="1700280"/>
            <a:ext cx="86342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JEITA  Structure and Manag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EDA-TC  Current major activ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STD-TSC and TC93/WG2 activ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　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SystemC-TG, SytemVerilog-TG Activ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DASC-”EDA-TC” Collaboration Struct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38480" y="11592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-  Outline  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4797360"/>
            <a:ext cx="78850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JEITA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Japan Electronics and Information Technology Industries Association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               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( URL http://www.jeita.or.jp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8640" y="-3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What  Is JEI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42880" y="1027080"/>
            <a:ext cx="80564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ＭＳ ゴシック"/>
              </a:rPr>
              <a:t>526 prominent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  <a:ea typeface="ＭＳ ゴシック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  <a:ea typeface="ＭＳ ゴシック"/>
              </a:rPr>
              <a:t>Japanese electronics and IT-related compani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508640"/>
            <a:ext cx="7345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ＭＳ ゴシック"/>
              </a:rPr>
              <a:t>14 boards</a:t>
            </a:r>
            <a:r>
              <a:rPr b="1" lang="en-US" sz="1800" spc="-1" strike="noStrike">
                <a:solidFill>
                  <a:srgbClr val="545472"/>
                </a:solidFill>
                <a:latin typeface="Tahoma"/>
                <a:ea typeface="ＭＳ ゴシック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  <a:ea typeface="ＭＳ ゴシック"/>
              </a:rPr>
              <a:t>represented by member compani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71480" y="2112840"/>
            <a:ext cx="57992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8520" y="1693800"/>
            <a:ext cx="874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o promote the healthy manufacturing, international trade and consumption of electronics products and components in order to contribute to the overall development of the electronics and IT</a:t>
            </a:r>
            <a:r>
              <a:rPr b="1" lang="zh-CN" sz="2400" spc="-1" strike="noStrike">
                <a:solidFill>
                  <a:srgbClr val="545472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dustries, and thereby further Japan's economic development and cultural prosperity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o foster a digital network society for the 21st century, in which IT advancement brings fulfillment and a higher quality of life to everyone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3600" y="435276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iss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" y="100188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0680"/>
            <a:ext cx="89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Objective &amp; Mission of JEIT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4840" y="982800"/>
            <a:ext cx="1962000" cy="3927240"/>
            <a:chOff x="204840" y="982800"/>
            <a:chExt cx="1962000" cy="3927240"/>
          </a:xfrm>
        </p:grpSpPr>
        <p:sp>
          <p:nvSpPr>
            <p:cNvPr id="161" name=""/>
            <p:cNvSpPr/>
            <p:nvPr/>
          </p:nvSpPr>
          <p:spPr>
            <a:xfrm>
              <a:off x="204840" y="982800"/>
              <a:ext cx="1952280" cy="599760"/>
            </a:xfrm>
            <a:prstGeom prst="rect">
              <a:avLst/>
            </a:prstGeom>
            <a:noFill/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4560" y="4309920"/>
              <a:ext cx="1952280" cy="600120"/>
            </a:xfrm>
            <a:prstGeom prst="rect">
              <a:avLst/>
            </a:prstGeom>
            <a:noFill/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82080" y="144360"/>
            <a:ext cx="71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JEITA  Structure and Managemen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0360" y="8827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JEIT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1560" y="1374840"/>
            <a:ext cx="740268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Information System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Personal Informatization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Digital Home Appliance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Industrial Equipment and Social System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Display Device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Electronic Component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emiconductor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oard(JEITA-JSIA):45com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59760" y="3257640"/>
            <a:ext cx="6083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emiconductor Industrial Affairs Committe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emiconductor International Affairs Committe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emiconductor Technology Committe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280" y="1427040"/>
            <a:ext cx="0" cy="175284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7280" y="156384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7280" y="180324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7280" y="204300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7280" y="228276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7280" y="252396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280" y="3157560"/>
            <a:ext cx="45720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19040" y="3309840"/>
            <a:ext cx="0" cy="86832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19040" y="3672000"/>
            <a:ext cx="2574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19040" y="3417840"/>
            <a:ext cx="270000" cy="7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19040" y="4025880"/>
            <a:ext cx="45720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33440" y="4178160"/>
            <a:ext cx="0" cy="121932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33440" y="4344840"/>
            <a:ext cx="276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3440" y="4573440"/>
            <a:ext cx="276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74080" y="4172040"/>
            <a:ext cx="22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Marketing Committe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Road Map Committe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00480" y="4788000"/>
            <a:ext cx="0" cy="228600"/>
          </a:xfrm>
          <a:prstGeom prst="line">
            <a:avLst/>
          </a:prstGeom>
          <a:ln w="38160">
            <a:solidFill>
              <a:srgbClr val="54547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6440" y="4956120"/>
            <a:ext cx="625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EDA Technical Committee(EDA-TC):20compani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                     </a:t>
            </a:r>
            <a:r>
              <a:rPr b="1" lang="en-US" sz="1800" spc="-1" strike="noStrike">
                <a:solidFill>
                  <a:srgbClr val="545472"/>
                </a:solidFill>
                <a:latin typeface="Tahoma"/>
              </a:rPr>
              <a:t>Chair: Y.Okamura(Renesa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33440" y="5168880"/>
            <a:ext cx="45720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160" y="5730840"/>
            <a:ext cx="7467840" cy="580680"/>
          </a:xfrm>
          <a:prstGeom prst="rect">
            <a:avLst/>
          </a:prstGeom>
          <a:solidFill>
            <a:srgbClr val="c7c7d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595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DA Technical Committee was formed to handle EDIF 2.0 standard </a:t>
            </a:r>
            <a:r>
              <a:rPr b="0" i="1" lang="zh-CN" sz="1600" spc="-1" strike="noStrike">
                <a:solidFill>
                  <a:srgbClr val="000000"/>
                </a:solidFill>
                <a:latin typeface="Tahoma"/>
              </a:rPr>
              <a:t>　　　　　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ahoma"/>
              </a:rPr>
              <a:t>　　　　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s one of  technical committees in JEITA (former EIAJ) in April 1990 .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2880" y="277812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56960" y="152280"/>
            <a:ext cx="66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EDA-TC  Current major activit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3619440"/>
            <a:ext cx="35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. Study Groups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ew!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5240" y="3992400"/>
            <a:ext cx="80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PDS (Physical Design Standardization) Study Group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Chair: T.Sato(Renesas)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2640" y="4506840"/>
            <a:ext cx="75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8440" indent="-111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To investigate standardization for design methodologies, libraries, and their benchmarks in nanometer-era physical desig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560" y="1204920"/>
            <a:ext cx="80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Standardization Technical Subcommittee(STD-TSC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4240" y="177804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5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o contribute EDA related standardization efforts by supporting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EDA  standards  related groups and organizations such as Accellera,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EEE/IEEE-SA, IEEE/DASC, IEC/TC93, OSCI..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000" y="5227560"/>
            <a:ext cx="77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. EDSFair Executive Committee   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air : M.Nadaoka(Oki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8880" y="5637240"/>
            <a:ext cx="77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5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o  organize and support events to promote and encourag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EDA technology and standards.  To sponsor  the EDS Fair exhibition show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8640" y="2712960"/>
            <a:ext cx="63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ystemC Task Group              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Chair: T.Hasegawa(Fujitsu)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9720" y="3073320"/>
            <a:ext cx="68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ystemVerilog Task Group      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Chair: K.Hamaguchi(Matsushita)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77920" y="150336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air : T.Aikyo(Fujitsu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0720" y="888480"/>
            <a:ext cx="8589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chedule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ursday, January 26, &amp; Friday, January 27, 2006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0:00 am to 6:00 pm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Location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Pacifico Yokohama, JAPA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onstituent part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xhibition with suites,  Exhibitor's seminar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PGA/PLD Design Conferen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multaneous even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sia and South Pacific Design Automation Conference (ASP-DAC) 2006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ystem Design Forum 2006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ponsor :JEIT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ooperation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lectronic Design Automation Consortium (EDAC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upport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Ministry of Economy, Trade and Industry of Japan (METI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mbassy of United States of America in Japan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736640" y="190440"/>
            <a:ext cx="518328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Outline of EDSFair 2006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462640" y="1528920"/>
            <a:ext cx="3166920" cy="201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1" name=""/>
          <p:cNvSpPr/>
          <p:nvPr/>
        </p:nvSpPr>
        <p:spPr>
          <a:xfrm>
            <a:off x="5294160" y="352584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View of Pacifico Yokoham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480" y="204480"/>
            <a:ext cx="67039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mparison of DAC and EDSFair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28720" y="3727440"/>
            <a:ext cx="2683080" cy="1147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0" y="3695760"/>
            <a:ext cx="3119400" cy="20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539640" y="1650960"/>
          <a:ext cx="802656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650960"/>
                    <a:ext cx="80265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73120" y="3319560"/>
            <a:ext cx="798336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0520" y="2749680"/>
            <a:ext cx="798336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7560" y="2179800"/>
            <a:ext cx="7983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4960" y="1609560"/>
            <a:ext cx="7983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520" y="2309760"/>
            <a:ext cx="83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DAC 2005                   Jun. 12-17      Anaheim ,    U.S   </a:t>
            </a:r>
            <a:r>
              <a:rPr b="1" lang="zh-CN" sz="2000" spc="-1" strike="noStrike">
                <a:solidFill>
                  <a:srgbClr val="545472"/>
                </a:solidFill>
                <a:latin typeface="Tahoma"/>
              </a:rPr>
              <a:t>～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10,0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6600" y="2813040"/>
            <a:ext cx="83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EDSFair 2005             Jan. 27-28     Yokohama , JPN      11,15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63600" y="1012680"/>
            <a:ext cx="9001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Chair:  T.Aikyo(Fujitsu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Members: Experts from Academia, Semicondu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                      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industries and EDA industr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Activities 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To contribute EDA standardization in cooperat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with standard organization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1800360" indent="-1890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 Unicode MS"/>
              </a:rPr>
              <a:t>Accellera,  OSCI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800360" indent="-1890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 Unicode MS"/>
              </a:rPr>
              <a:t>IEEE/DASC,  IEEE-S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Joined the balloting group for IEEE P1800 &amp; IEEE P1666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Hosted Meeting of IEC/TC93 Design Automat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on 5 -9 September 2005 in Nara, Japa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19160" y="11592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TD-TSC and TC93/WG2 Activit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7:03:01Z</dcterms:created>
  <dc:creator>Kasumi Hama</dc:creator>
  <dc:description/>
  <dc:language>en-US</dc:language>
  <cp:lastModifiedBy>tkambe</cp:lastModifiedBy>
  <dcterms:modified xsi:type="dcterms:W3CDTF">2005-09-01T09:24:26Z</dcterms:modified>
  <cp:revision>82</cp:revision>
  <dc:subject/>
  <dc:title>PowerPoint プレゼンテーション</dc:title>
</cp:coreProperties>
</file>